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34F5-FB0F-41AC-8CE1-C0E2368F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3925-95DC-4F88-A500-D766DBF9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6416-C620-4C7C-BDB3-1A667762C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401C-AABE-4A44-B62C-C3D436D5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8A61D-B550-446D-A262-1861C6343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26007-0602-4065-9C38-E0D0B3A2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FB6A6-A761-4AA7-9A0D-6D715AE8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327A6-4C16-48F1-B94B-F209BD15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DF9B2-0957-4C9C-ACCE-6AE6DDB6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B965F-21DF-4228-A70C-571F73F6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D815D-BF75-47D3-A13E-C24F1EE6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D3AC-4795-45B4-8165-374E7176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BBEC0-4967-4F30-BD7E-4BBFA5C7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FB3BE-6E15-4AB7-938E-23C07564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1B8D1-F528-4C6C-BFDC-A58658CB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2B1B8-828F-43B7-89BE-25DF2BDB0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78414-4D89-4483-A4C4-2268E1C59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D70C-1A4F-4EA7-8001-B10F0E5A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49B6-0838-44F2-8851-5604D65B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32BB-D401-4A40-98AB-A17CEF4A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DED5-13A8-4DCD-822B-FC250572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3D69-869E-4286-8798-89F2803E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E6E3-839F-4233-8794-8BE4D9A9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6078-FC85-4827-B4E7-5AD2FBF5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9BA0-015B-47CB-8F07-CFBF90C4A0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BC34-4506-4A9E-80F7-E86763C7E5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cience Career</a:t>
            </a:r>
            <a:br>
              <a:rPr sz="24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(Select a career in science that has a role in the world you would enjo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ype this box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 Na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ool Na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Job descrip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box describe duties and responsibilities for this car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can I do now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st here activities and learning that you can do that will develop skills needed for this jo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ample: If skill is Team player- you could lis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Join a club such as 4-H, FFA, FLBA, science club or school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ample: be good with computer technology- li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ake extra computer clas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ducation Requirem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this box write what schooling is need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ample</a:t>
            </a: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c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Bachelors degree in science (4 to 5 yr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nefi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rite the insurance, retirement, vacation, travel perks, discounts, trianing, education, other opportunit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how Me the Money $$$$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Here, write the amount for starting and mid-career salar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There also may be a difference depending on edu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Example—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Starting salary $60, 000 dolla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(that is $5,000 each month or $1,250 each week, that is $250 each day!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y I would like this care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6T15:58:22Z</dcterms:created>
  <dc:creator>Christine.Clark</dc:creator>
  <dc:description/>
  <dc:language>en-US</dc:language>
  <cp:lastModifiedBy>Christine.Clark</cp:lastModifiedBy>
  <dcterms:modified xsi:type="dcterms:W3CDTF">2010-08-06T16:32:10Z</dcterms:modified>
  <cp:revision>6</cp:revision>
  <dc:subject/>
  <dc:title>Science Career (Select a career in science that has a role in the world you would enjoy type this box)</dc:title>
</cp:coreProperties>
</file>